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D6C3C-D222-4327-8EED-7B91BF16B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A580C-E720-45CE-B72D-F7A90A6D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CBB50-7B65-4835-A65A-721B7C895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AF704-7807-47A5-81D3-BCC96B66B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D080A-7829-493E-9836-42E0490E8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841F4-9AF9-4CCA-8051-54C751285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EF221-600E-47EF-99A1-DBBF7E904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7AFC6-5956-4275-9629-69D40170B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7D164-A367-43B7-8854-148CB37C0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EF0CD-D102-470E-A1CC-F740EC2BB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A8B86-30D4-4756-8771-315977565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41E1D-57A3-4870-882B-F7F9B6D5B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219C9-4236-4C80-A308-5B292FEF4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3CBE1-F4D1-40FF-908E-18E3557AF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3DBC5-5237-4D9D-98ED-C85F1F9C0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FDE27-C510-4FE7-A027-A522418E0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D1382-0E5E-4C2C-9AB5-3D7DCBE9B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2AA57-BA5C-4CAC-892B-F38D74849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9C10-4A61-412F-A8F7-D1711C728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F180-090D-43AF-BAD2-BA7975C3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4A172-2636-4B5C-9571-53494EF0D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555CE-F8B3-4DA9-82DB-F73070E4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E684-67A9-43B6-8183-B248E2FE0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6CAF6-2173-4B9E-B673-7600EFCD0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4B02-5779-4FDD-A9F2-E60B83797F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6025-56E1-4AE3-9121-CD07C64A6C2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Unicode MS"/>
              </a:rPr>
              <a:t>The Economics of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ucation:  An Important Industry</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is an investment in human capit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is the conduit that the public sector uses to supply the human capital to the private sector this is needed to sustain its prominence in the wor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l achievement and economic success are clearly link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produces only intangibles in the form of nonmaterial goods or services that are valuable but difficult to measur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ource Allocation</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ource allocations to education are a responsibility of government at al level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cope of services provided is determined by the value of those services as compared to the value of other services at the same cost, but the point of diminishing returns for investments in education has yet to be reach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ly, education has been the largest public function and the country’s biggest business.  The expansion of educational services and the increasing cost of education has had a beneficial effect on the nation’s econom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ding will continue to be a serious challeng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ource Allocation</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conomists and politicians value educat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dividual benefits from an investment in an organizat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ciety as a whole benefits when goods and services are produced for all.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s need insight to relate to various philosophies when seeking financial supports for schoo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ource Allocation</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 is an important stimulator of economic grow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s sponsorship and financing is a public sector responsibility.  Services should be provided equitably, but it cannot be provided with equality to a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Benefits</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ose who have a college education generally earn twice as much as high school dropouts.  Much of today’s wealth is tied to technology, and technology is advanced through education.  Generally, the more education a person attains, the better job he or she will ha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economic Benefit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petuating our form of gover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al val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thical val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appreciate and patronize the ar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rves a nation’s culture and people’s sense of ident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rnal Benefits</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does not follow the exclusion principle.  Everyone benefits form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lem of financing education is different from that of marketing most other goods and servi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xistence of externalities and the nonexistence of the exclusion principle changed the method of financing education from the </a:t>
            </a:r>
            <a:r>
              <a:rPr b="0" i="1" lang="en-US" sz="2400" spc="-1" strike="noStrike">
                <a:solidFill>
                  <a:srgbClr val="003366"/>
                </a:solidFill>
                <a:latin typeface="Arial"/>
              </a:rPr>
              <a:t>benefit principle</a:t>
            </a:r>
            <a:r>
              <a:rPr b="0" lang="en-US" sz="2400" spc="-1" strike="noStrike">
                <a:solidFill>
                  <a:srgbClr val="003366"/>
                </a:solidFill>
                <a:latin typeface="Arial"/>
              </a:rPr>
              <a:t> to the </a:t>
            </a:r>
            <a:r>
              <a:rPr b="0" i="1" lang="en-US" sz="2400" spc="-1" strike="noStrike">
                <a:solidFill>
                  <a:srgbClr val="003366"/>
                </a:solidFill>
                <a:latin typeface="Arial"/>
              </a:rPr>
              <a:t>ability principl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st-Quality Relationships in Education</a:t>
            </a:r>
            <a:endParaRPr b="1" lang="en-US" sz="32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goals” of education vary from place to place.  There is no way to measure all of the changes that are products of formal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st-quality relation is a matter of the efficiency with which the schools reach their objectives with the smallest outlay of mone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the relationship between cost and quality in education is high, there is a difference of opinion among researchers in defining and measuring quality in educ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0T18:52:07Z</dcterms:created>
  <dc:creator>Cynthia Altemueller</dc:creator>
  <dc:description/>
  <dc:language>en-US</dc:language>
  <cp:lastModifiedBy>AEURY</cp:lastModifiedBy>
  <dcterms:modified xsi:type="dcterms:W3CDTF">2006-01-27T22:11:25Z</dcterms:modified>
  <cp:revision>7</cp:revision>
  <dc:subject/>
  <dc:title>The Economics of Education</dc:title>
</cp:coreProperties>
</file>